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FAE-4149-4F6E-8869-114F0E20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956-809F-4723-AD63-E1F63750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CC6-BB35-48CB-86D5-A9A1532C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ED7-291E-439C-82FB-ECF2BF4E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000-F131-404F-A58A-1A00313C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2E1-EF39-4A78-AFDD-E12626D4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864-DB8A-409F-B835-67DEBFA3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D21-BE57-47D7-BBBB-8FD887E4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280-F2D8-4731-BF9B-C72F177F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43D-98F3-4EAB-AE5B-71843F1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390-FCBC-4FB7-9535-04CEB42E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9E8-74D2-473D-82A4-218087E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D8D9-A627-4028-AA34-E05038F28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Reassessment9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Reassessment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Reassessment11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Reassessment12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Reassessment1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Reassessment2.jpg"/>
          <p:cNvPicPr/>
          <p:nvPr/>
        </p:nvPicPr>
        <p:blipFill>
          <a:blip r:embed="rId1"/>
          <a:stretch/>
        </p:blipFill>
        <p:spPr>
          <a:xfrm>
            <a:off x="752400" y="819000"/>
            <a:ext cx="7639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Reassessment3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Reassessment4.jpg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Reassessment5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Reassessment6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Reassessment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Reassessment8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39:19Z</dcterms:created>
  <dc:creator>zcui</dc:creator>
  <dc:description/>
  <dc:language>en-US</dc:language>
  <cp:lastModifiedBy>rbalne</cp:lastModifiedBy>
  <dcterms:modified xsi:type="dcterms:W3CDTF">2009-08-12T14:04:27Z</dcterms:modified>
  <cp:revision>2</cp:revision>
  <dc:subject/>
  <dc:title>TRAC</dc:title>
</cp:coreProperties>
</file>